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417B-C4FC-4E72-90EE-191F7D1E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E2C-1907-4093-B23D-E7C17E27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496-6CA1-46D2-AD29-2F7A1229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795C-F5D9-4A54-86CA-86C771A2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536E3-91B1-4801-9ED9-1D1009E6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F1220-A3FC-400B-8A71-06B03C6C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61969-3952-4191-A166-42EDB2D0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97471-ADF9-42E6-8BFB-8D52AE1C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369F8-3D9E-4F71-9E52-70E37BD7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7A4B4-0403-4185-B630-596BCCD8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B073D-21C0-49DE-BDD9-9D6C244C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9F5-EBE5-4BEF-B4A8-913CA72C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7BAF2-81FA-44B2-BB11-FB7A15B3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46036-58AA-44C1-AEB1-BB9083E0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2933A-571B-4067-8785-B93D08CF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22B24-F399-43D8-A864-F5886DB6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8F416-26A4-4CAD-91AA-0FF8545C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63E-F3F4-4891-9DEF-C0683744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56E-DDA5-4C9D-B34C-D9DBE2D4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A35-9164-4BEB-8011-1BC93486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5EB0-6654-4DD1-B312-CFAC62C0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A514-A1C5-4736-BAE8-7AF4B694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206B-8C53-4FD7-B29E-B585D0B7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6AE2-862A-49AF-BF9E-C0999DF6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CD76-858A-4B43-BDF2-2BFD8B698E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F12E-C4B2-4381-8814-F5B11F53F0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4960" y="423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03680" y="7938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75640" y="973080"/>
            <a:ext cx="17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y Jo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Tahoma"/>
              </a:rPr>
              <a:t>I can use what I have learned about the way my brain works in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can do this when I learn  my learning technique learning style and intelligence ty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31399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65440" y="32925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Tahoma"/>
              </a:rPr>
              <a:t>I can use what I have learned about the way my brain works in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can do this when I learn  my learning technique learning style and intelligence ty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362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Tahoma"/>
              </a:rPr>
              <a:t>It’s important to learn how your brain works because it will help you know what you do best</a:t>
            </a:r>
            <a:r>
              <a:rPr b="0" lang="e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Tahoma"/>
              </a:rPr>
              <a:t>I can use what I have learned about the way my brain works in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can do this when I learn  my learning technique learning style and intelligence ty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Tahoma"/>
              </a:rPr>
              <a:t>I can use what I have learned about the way my brain works in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can do this when I learn  my learning technique learning style and intelligence ty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56760" y="307332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learning style is Audi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Tahoma"/>
              </a:rPr>
              <a:t>That means that I</a:t>
            </a:r>
            <a:r>
              <a:rPr b="0" lang="en" sz="3200" spc="-1" strike="noStrike">
                <a:solidFill>
                  <a:srgbClr val="ffffff"/>
                </a:solidFill>
                <a:latin typeface="Tahoma"/>
              </a:rPr>
              <a:t>  learn best by liste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Tahoma"/>
              </a:rPr>
              <a:t>My learning technique is Abstract Sequent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Tahoma"/>
              </a:rPr>
              <a:t>My intelligence type is Creative Intellig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59360" y="2743200"/>
            <a:ext cx="42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800" spc="-1" strike="noStrike">
                <a:solidFill>
                  <a:srgbClr val="ffffff"/>
                </a:solidFill>
                <a:latin typeface="Arial"/>
              </a:rPr>
              <a:t>This means that I am creative in the</a:t>
            </a: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 a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Tahoma"/>
              </a:rPr>
              <a:t>I can use what I have learned about the way my brain works in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can do this when I learn  my learning technique learning style and intelligence ty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7:58:07Z</dcterms:created>
  <dc:creator>demilovatorocks!</dc:creator>
  <dc:description/>
  <dc:language>en-US</dc:language>
  <cp:lastModifiedBy>demilovatorocks!</cp:lastModifiedBy>
  <dcterms:modified xsi:type="dcterms:W3CDTF">2010-12-08T16:45:25Z</dcterms:modified>
  <cp:revision>14</cp:revision>
  <dc:subject/>
  <dc:title>_____________________________________________________</dc:title>
</cp:coreProperties>
</file>